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3A53-42B4-443A-A78D-B1AF6D90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CEF-5083-46D2-8412-E99AE0AC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AFAD-ADAF-4FFE-8A52-B2BA71F2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1561-63C7-4E13-83C8-B8F442F0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98C7-D5D2-43EB-BF9E-2443F48D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4B2E-0D18-48EF-A683-6D2D248E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BB29-17AA-4204-BE64-110AB240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5379-73F1-41A4-99E8-4A1ACE62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8E26-0D01-4C68-A2E7-463E0012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C66E-C3FB-4B85-B489-928270A3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325E-F487-425C-AD61-8472B5CD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8702-C08F-423C-81A4-C7AA2D86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3C00-1437-46E5-88BD-46358A12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2019-747E-4E21-86C0-E8A19F0B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E3B9-D3DC-4F13-9C09-71DAA521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A943-75DA-478F-90E7-EF051A0F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954D-393B-4F41-8C2B-2A8C52D6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A2B6-5FA7-4E3B-AA8E-99CFF395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2A3A-F45B-4FE9-8747-04E5093F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2F17-7C4C-4489-948C-FA79F08F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E42-E749-42EA-9ED5-17B8D4DA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0FD2-3194-4072-AF01-0E8CA983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D04D-5F90-4A12-A852-F4475E59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0F8D-7F45-49E0-AD3B-4DBDBFC9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5FC2-6471-4CFF-8B42-A94D8706FB1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8320-43BF-4407-8162-014AF015987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DOL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e needed 22 ticket for the whole familie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dormant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Inactive, as if asleep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exclusively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Solely, without sharing with other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ineag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escent, ancestry, family, extrac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objective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im or end (of an action) goal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opinionated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nduly attached to one’s own opinion, obstinate, stubbor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Assignment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rite a paragraph using 5 of the vocabulary words in it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Great Gatsby-2</a:t>
            </a:r>
            <a:r>
              <a:rPr b="1" lang="en-US" sz="3600" spc="-1" strike="noStrike" baseline="30000">
                <a:solidFill>
                  <a:srgbClr val="006666"/>
                </a:solidFill>
                <a:latin typeface="Arial"/>
              </a:rPr>
              <a:t>nd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and 6</a:t>
            </a:r>
            <a:r>
              <a:rPr b="1" lang="en-US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ho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d a partner and work on map and quote activ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Journal respon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rt Ch.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Great Gatsby-4</a:t>
            </a:r>
            <a:r>
              <a:rPr b="1" lang="en-US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ho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 character cha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 Setting cha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ork on Imagery projec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tart Ch. 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Answer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e needed twenty-two tickets for the whole family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c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ule for this: In general, spell out numbers that can be written as two wor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cused Freewr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 about a goal you have for after high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Vocabulary Unit 7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 a sentence if it doesn’t have o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oice, one of two or more things offered for choi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blunder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istake or error caused by stupidity or carelessnes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custody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Care, safekeeping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Diminutive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elow average, smal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dispel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rive away by scattering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6:45:18Z</dcterms:created>
  <dc:creator>rebecca</dc:creator>
  <dc:description/>
  <dc:language>en-US</dc:language>
  <cp:lastModifiedBy>rebecca</cp:lastModifiedBy>
  <dcterms:modified xsi:type="dcterms:W3CDTF">2009-02-13T17:11:09Z</dcterms:modified>
  <cp:revision>2</cp:revision>
  <dc:subject/>
  <dc:title>DOL</dc:title>
</cp:coreProperties>
</file>